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5265720" y="-360"/>
            <a:ext cx="4029120" cy="3510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2895120" y="525600"/>
            <a:ext cx="3505320" cy="2628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657480"/>
            <a:ext cx="4029120" cy="3510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23EAE7-3EAC-473F-B153-B58E625EF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2895480" y="525600"/>
            <a:ext cx="3505320" cy="2628720"/>
          </a:xfrm>
          <a:prstGeom prst="rect">
            <a:avLst/>
          </a:prstGeom>
          <a:ln w="0">
            <a:noFill/>
          </a:ln>
        </p:spPr>
      </p:sp>
      <p:sp>
        <p:nvSpPr>
          <p:cNvPr id="41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000" spc="-1" strike="noStrike">
                <a:solidFill>
                  <a:srgbClr val="000000"/>
                </a:solidFill>
                <a:latin typeface="Arial"/>
              </a:rPr>
              <a:t>quick refresher for the teacher on important te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somal gene- a gene found on any chromosome except for the sex chromosome.  These are chromosomes numbered 1-2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linked gene- a gene found on a chromosome designated as a sex chromosome (X or 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minant- Refers to an allele that is expressed phenotypically and masks any recessive counterpa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ssive- An allele that is not phenotypically expressed when its counterpart is dominant.</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2895480" y="525600"/>
            <a:ext cx="3505320" cy="2628720"/>
          </a:xfrm>
          <a:prstGeom prst="rect">
            <a:avLst/>
          </a:prstGeom>
          <a:ln w="0">
            <a:noFill/>
          </a:ln>
        </p:spPr>
      </p:sp>
      <p:sp>
        <p:nvSpPr>
          <p:cNvPr id="43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 minute and try to decide if this slide is autosomal or X-link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2895480" y="525600"/>
            <a:ext cx="3505320" cy="2628720"/>
          </a:xfrm>
          <a:prstGeom prst="rect">
            <a:avLst/>
          </a:prstGeom>
          <a:ln w="0">
            <a:noFill/>
          </a:ln>
        </p:spPr>
      </p:sp>
      <p:sp>
        <p:nvSpPr>
          <p:cNvPr id="43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utosomal because it is 50/50 men to women with the disorder, if it was X-linked most of the men in the diagram would have the dis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you count the number of men with the disorder and the number of women with the disorder.  In this pedigree, 3 men and 3 women have the disorde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2895480" y="525600"/>
            <a:ext cx="3505320" cy="2628720"/>
          </a:xfrm>
          <a:prstGeom prst="rect">
            <a:avLst/>
          </a:prstGeom>
          <a:ln w="0">
            <a:noFill/>
          </a:ln>
        </p:spPr>
      </p:sp>
      <p:sp>
        <p:nvSpPr>
          <p:cNvPr id="43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step is to determine if the disorder is dominant or recessive.  It is important to find out if a disorder is dominant or recessive.  For example, Huntington’s disease is a dominant disorder.  If you have only one dominant gene you will have Huntington’s disease, which is a lethal disorder.  The disorder does not show up until a person is in their middle ages such as 45.  It will quickly decrease their motor skills and the brain will begin to deteri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isorder is dominant, one parent must have the disorder (either homozygous dominant (TT) or heterozygous recessive (Tt).  Both parents do </a:t>
            </a:r>
            <a:r>
              <a:rPr b="0" lang="en-US" sz="1200" spc="-1" strike="noStrike">
                <a:solidFill>
                  <a:srgbClr val="000000"/>
                </a:solidFill>
                <a:latin typeface="Arial"/>
              </a:rPr>
              <a:t>not have to have the disorder</a:t>
            </a:r>
            <a:r>
              <a:rPr b="0" lang="en-US" sz="1000" spc="-1" strike="noStrike">
                <a:solidFill>
                  <a:srgbClr val="000000"/>
                </a:solidFill>
                <a:latin typeface="Arial"/>
              </a:rPr>
              <a:t>.  One parent might not have the disorder or be a carrier.  If a disease is dominant, it does not skip a generation unless one parent is heterozygous dominant (Tt) and the other parent is homozygous recessive (tt).  In this case the child has a chance of not receiving the dominant g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isorder is recessive, a parent does not have to have the disorder, but could still pass it to their offspring.  This would happen when a parent is heterozygous recessive (Tt) and passes on the recessive (t) gene.  This means this disorder can skip generations.  An example of a recessive disorder would be sickle cell anem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95480" y="525600"/>
            <a:ext cx="3505320" cy="2628720"/>
          </a:xfrm>
          <a:prstGeom prst="rect">
            <a:avLst/>
          </a:prstGeom>
          <a:ln w="0">
            <a:noFill/>
          </a:ln>
        </p:spPr>
      </p:sp>
      <p:sp>
        <p:nvSpPr>
          <p:cNvPr id="43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is pedigree dominant or recessiv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2895480" y="525600"/>
            <a:ext cx="3505320" cy="2628720"/>
          </a:xfrm>
          <a:prstGeom prst="rect">
            <a:avLst/>
          </a:prstGeom>
          <a:ln w="0">
            <a:noFill/>
          </a:ln>
        </p:spPr>
      </p:sp>
      <p:sp>
        <p:nvSpPr>
          <p:cNvPr id="43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dominant because a parent in every generation have the disorder.  Remember if a parent in every generation has the disorder, the disorder has not skipped a generation.  If the disorder has not skipped a generation the disorder is domina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2895480" y="525600"/>
            <a:ext cx="3505320" cy="2628720"/>
          </a:xfrm>
          <a:prstGeom prst="rect">
            <a:avLst/>
          </a:prstGeom>
          <a:ln w="0">
            <a:noFill/>
          </a:ln>
        </p:spPr>
      </p:sp>
      <p:sp>
        <p:nvSpPr>
          <p:cNvPr id="44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is pedigree dominant or recess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95480" y="525600"/>
            <a:ext cx="3505320" cy="2628720"/>
          </a:xfrm>
          <a:prstGeom prst="rect">
            <a:avLst/>
          </a:prstGeom>
          <a:ln w="0">
            <a:noFill/>
          </a:ln>
        </p:spPr>
      </p:sp>
      <p:sp>
        <p:nvSpPr>
          <p:cNvPr id="44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recessive because a parent in every generation does not have the disorder.  Remember the disorder can skipped a generation if the disorder is recessive.  The parents can be heterozygous and be carriers of the disorder but not have the symptoms of the disorde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2895480" y="525600"/>
            <a:ext cx="3505320" cy="2628720"/>
          </a:xfrm>
          <a:prstGeom prst="rect">
            <a:avLst/>
          </a:prstGeom>
          <a:ln w="0">
            <a:noFill/>
          </a:ln>
        </p:spPr>
      </p:sp>
      <p:sp>
        <p:nvSpPr>
          <p:cNvPr id="44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ummary will help reiterate the important parts of this les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reated by Lauren Almaguer, CDC Science Ambassador, 2004.]</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2895480" y="525600"/>
            <a:ext cx="3505320" cy="2628720"/>
          </a:xfrm>
          <a:prstGeom prst="rect">
            <a:avLst/>
          </a:prstGeom>
          <a:ln w="0">
            <a:noFill/>
          </a:ln>
        </p:spPr>
      </p:sp>
      <p:sp>
        <p:nvSpPr>
          <p:cNvPr id="41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is presentation is for the students to become familiar with how to use and interpret the pedigree chart.  This presentation will illustrate several characteristics of the pedigree chart.  Muscular dystrophy will be used as an example throughout this presentatio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2895480" y="525600"/>
            <a:ext cx="3505320" cy="2628720"/>
          </a:xfrm>
          <a:prstGeom prst="rect">
            <a:avLst/>
          </a:prstGeom>
          <a:ln w="0">
            <a:noFill/>
          </a:ln>
        </p:spPr>
      </p:sp>
      <p:sp>
        <p:nvSpPr>
          <p:cNvPr id="41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edigree is a chart of the genetic history of family over several generations. Scientists or a genetic counselor would find out about your family history and make this chart to analyze it. For example, a couple might like to know their chances of having a child that has muscular dystrophy.  So the scientists or a genetic counselor would find out who had muscular dystrophy in the mother’s and/or father’s families.  This information would be used to  and then calculate the probability of the couple having a child with MD.</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2895480" y="525600"/>
            <a:ext cx="3505320" cy="2628720"/>
          </a:xfrm>
          <a:prstGeom prst="rect">
            <a:avLst/>
          </a:prstGeom>
          <a:ln w="0">
            <a:noFill/>
          </a:ln>
        </p:spPr>
      </p:sp>
      <p:sp>
        <p:nvSpPr>
          <p:cNvPr id="41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 learn the symbols of the pedigree charts before you can start to learn how to interpret it.  These are the symbols that represent a male and a femal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2895480" y="525600"/>
            <a:ext cx="3505320" cy="2628720"/>
          </a:xfrm>
          <a:prstGeom prst="rect">
            <a:avLst/>
          </a:prstGeom>
          <a:ln w="0">
            <a:noFill/>
          </a:ln>
        </p:spPr>
      </p:sp>
      <p:sp>
        <p:nvSpPr>
          <p:cNvPr id="42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examples of symbols that represent relationships between peop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2895480" y="525600"/>
            <a:ext cx="3505320" cy="2628720"/>
          </a:xfrm>
          <a:prstGeom prst="rect">
            <a:avLst/>
          </a:prstGeom>
          <a:ln w="0">
            <a:noFill/>
          </a:ln>
        </p:spPr>
      </p:sp>
      <p:sp>
        <p:nvSpPr>
          <p:cNvPr id="42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ymbols also represent relationships between people. some may have to each oth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2895480" y="525600"/>
            <a:ext cx="3505320" cy="2628720"/>
          </a:xfrm>
          <a:prstGeom prst="rect">
            <a:avLst/>
          </a:prstGeom>
          <a:ln w="0">
            <a:noFill/>
          </a:ln>
        </p:spPr>
      </p:sp>
      <p:sp>
        <p:nvSpPr>
          <p:cNvPr id="42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just an example of a pedigree and there can be many more different typ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2895480" y="525600"/>
            <a:ext cx="3505320" cy="2628720"/>
          </a:xfrm>
          <a:prstGeom prst="rect">
            <a:avLst/>
          </a:prstGeom>
          <a:ln w="0">
            <a:noFill/>
          </a:ln>
        </p:spPr>
      </p:sp>
      <p:sp>
        <p:nvSpPr>
          <p:cNvPr id="42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examples of different types of symbols.  These symbols would be the same for males or for females, except for X-linked carrier which is only used for females.  So an affected male would be a square that is filled in completely.  A deceased female would be a circle with a diagonal slash.</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2895480" y="525600"/>
            <a:ext cx="3505320" cy="2628720"/>
          </a:xfrm>
          <a:prstGeom prst="rect">
            <a:avLst/>
          </a:prstGeom>
          <a:ln w="0">
            <a:noFill/>
          </a:ln>
        </p:spPr>
      </p:sp>
      <p:sp>
        <p:nvSpPr>
          <p:cNvPr id="42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nterpreting a pedigree chart of a family with a disease like muscular dystrophy, it is important to consider two steps.  The first is to determine if the disorder is autosomal or X-lin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isorder is X-linked most of the males will have the disorder because the Y-chromosome cannot mask the affects of an affected X-chromosome.  A female can have the disorder, but it would be a very low percentage.  For a female to be affected, she would have had to receive an affected gene from the mother and the father.  This means that the father would have the disorder and the mother was a carr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 autosomal disorder, the disorder is not found on the X or Y chromosome.  It is found on the other 22 chromosomes in the human body.  This means that men and women have an equal chance of having the disorder.  The mother and father can be homozygous dominant, heterozygous, and homozygous recessive.  If a person is homozygous dominant, the person has two of the same dominant genes.  For example if someone is homozygous dominant for being tall it may be represented as TT.  Capital letter always represent a dominant gene.  If a person is heterozygous, this person would have a dominant trait and a recessive trait.  It may be represent as Tt.  The dominant gene will mask the recessive gene, so the person is still tall.  If a person is homozygous recessive, the person has two of the same recessive genes.  For example if someone is homozygous recessive for height, it may be represented as tt.   The tt would mean the person is shor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7A611-32E8-4A97-936C-A5E041756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1949B-B5C0-4EDD-BB9A-B4F26F2D8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8FB63-65A4-42F5-9079-39EA6C68B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001E3-EEBF-4DF3-A0B8-3C1291416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6F3F1-E454-4AA9-8372-BDB0CADDA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B554F-7C7A-44FC-8F87-3B93A3F42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C5225-AC88-45A7-A298-C02499A3C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8C3A8-3144-4BF6-A832-2321F6B19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770F0-DF09-46DE-89B3-FE5EF91D3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A80BC-BE46-444E-B7AB-C0CD016FA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D715B-C56F-4A8C-AF63-1991EAF30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D4191-C42D-4AB5-8506-61F0CB361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1860C-4BE5-4C91-BC95-ADCA193A5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F5D9-1880-461D-BF63-7CBFF268E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552BE-1743-4FF4-B570-2079FD0B3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EAC7D-1CCD-48C5-A083-0DD5E0C74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165C5-C29B-460C-B507-E9A6EFA5C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1D3ED-FA8F-4F15-B31F-350837E08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5D0D3-D0A4-483A-92E7-503624733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3FD22-108F-4678-BF96-E3028C45A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6F35F-1B4A-463A-9997-2DD1CFBF1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75BB-6A8A-4F0D-BB8A-39C5F8F80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477D-1AF3-4D5D-B172-5B2DB3266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FFCA3-EF66-4569-A83D-A390E636E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30CE-65A4-4E68-AA2E-E8EBE7DBD3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1C9A-D4CC-4317-A697-697C77ABCD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edigree Charts</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mily tree of genet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ple of Pedigree Charts</a:t>
            </a:r>
            <a:endParaRPr b="0" lang="en-US" sz="4400" spc="-1" strike="noStrike">
              <a:solidFill>
                <a:srgbClr val="b7e7ff"/>
              </a:solidFill>
              <a:latin typeface="Arial"/>
            </a:endParaRPr>
          </a:p>
        </p:txBody>
      </p:sp>
      <p:sp>
        <p:nvSpPr>
          <p:cNvPr id="1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Autosomal or X-link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90" name=""/>
          <p:cNvGrpSpPr/>
          <p:nvPr/>
        </p:nvGrpSpPr>
        <p:grpSpPr>
          <a:xfrm>
            <a:off x="2209680" y="2590920"/>
            <a:ext cx="4953240" cy="2743200"/>
            <a:chOff x="2209680" y="2590920"/>
            <a:chExt cx="4953240" cy="2743200"/>
          </a:xfrm>
        </p:grpSpPr>
        <p:grpSp>
          <p:nvGrpSpPr>
            <p:cNvPr id="191" name=""/>
            <p:cNvGrpSpPr/>
            <p:nvPr/>
          </p:nvGrpSpPr>
          <p:grpSpPr>
            <a:xfrm>
              <a:off x="2209680" y="2590920"/>
              <a:ext cx="4953240" cy="2743200"/>
              <a:chOff x="2209680" y="2590920"/>
              <a:chExt cx="4953240" cy="2743200"/>
            </a:xfrm>
          </p:grpSpPr>
          <p:grpSp>
            <p:nvGrpSpPr>
              <p:cNvPr id="192" name=""/>
              <p:cNvGrpSpPr/>
              <p:nvPr/>
            </p:nvGrpSpPr>
            <p:grpSpPr>
              <a:xfrm>
                <a:off x="2209680" y="2590920"/>
                <a:ext cx="4953240" cy="2743200"/>
                <a:chOff x="2209680" y="2590920"/>
                <a:chExt cx="4953240" cy="2743200"/>
              </a:xfrm>
            </p:grpSpPr>
            <p:sp>
              <p:nvSpPr>
                <p:cNvPr id="193" name=""/>
                <p:cNvSpPr/>
                <p:nvPr/>
              </p:nvSpPr>
              <p:spPr>
                <a:xfrm>
                  <a:off x="2514600" y="2590920"/>
                  <a:ext cx="4572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181480" y="2666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2438280" y="2895480"/>
                <a:ext cx="4496040" cy="1905120"/>
                <a:chOff x="2438280" y="2895480"/>
                <a:chExt cx="4496040" cy="1905120"/>
              </a:xfrm>
            </p:grpSpPr>
            <p:sp>
              <p:nvSpPr>
                <p:cNvPr id="207"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24"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nswer</a:t>
            </a:r>
            <a:endParaRPr b="0" lang="en-US" sz="4400" spc="-1" strike="noStrike">
              <a:solidFill>
                <a:srgbClr val="b7e7ff"/>
              </a:solidFill>
              <a:latin typeface="Arial"/>
            </a:endParaRPr>
          </a:p>
        </p:txBody>
      </p:sp>
      <p:sp>
        <p:nvSpPr>
          <p:cNvPr id="2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som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27" name=""/>
          <p:cNvGrpSpPr/>
          <p:nvPr/>
        </p:nvGrpSpPr>
        <p:grpSpPr>
          <a:xfrm>
            <a:off x="2209680" y="2590920"/>
            <a:ext cx="4953240" cy="2743200"/>
            <a:chOff x="2209680" y="2590920"/>
            <a:chExt cx="4953240" cy="2743200"/>
          </a:xfrm>
        </p:grpSpPr>
        <p:grpSp>
          <p:nvGrpSpPr>
            <p:cNvPr id="228" name=""/>
            <p:cNvGrpSpPr/>
            <p:nvPr/>
          </p:nvGrpSpPr>
          <p:grpSpPr>
            <a:xfrm>
              <a:off x="2209680" y="2590920"/>
              <a:ext cx="4953240" cy="2743200"/>
              <a:chOff x="2209680" y="2590920"/>
              <a:chExt cx="4953240" cy="2743200"/>
            </a:xfrm>
          </p:grpSpPr>
          <p:grpSp>
            <p:nvGrpSpPr>
              <p:cNvPr id="229" name=""/>
              <p:cNvGrpSpPr/>
              <p:nvPr/>
            </p:nvGrpSpPr>
            <p:grpSpPr>
              <a:xfrm>
                <a:off x="2209680" y="2590920"/>
                <a:ext cx="4953240" cy="2743200"/>
                <a:chOff x="2209680" y="2590920"/>
                <a:chExt cx="4953240" cy="2743200"/>
              </a:xfrm>
            </p:grpSpPr>
            <p:sp>
              <p:nvSpPr>
                <p:cNvPr id="230" name=""/>
                <p:cNvSpPr/>
                <p:nvPr/>
              </p:nvSpPr>
              <p:spPr>
                <a:xfrm>
                  <a:off x="2514600" y="2590920"/>
                  <a:ext cx="4572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181480" y="2666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2438280" y="2895480"/>
                <a:ext cx="4496040" cy="1905120"/>
                <a:chOff x="2438280" y="2895480"/>
                <a:chExt cx="4496040" cy="1905120"/>
              </a:xfrm>
            </p:grpSpPr>
            <p:sp>
              <p:nvSpPr>
                <p:cNvPr id="244"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1"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erpreting a Pedigree Chart</a:t>
            </a:r>
            <a:endParaRPr b="0" lang="en-US" sz="4400" spc="-1" strike="noStrike">
              <a:solidFill>
                <a:srgbClr val="b7e7ff"/>
              </a:solidFill>
              <a:latin typeface="Arial"/>
            </a:endParaRPr>
          </a:p>
        </p:txBody>
      </p:sp>
      <p:sp>
        <p:nvSpPr>
          <p:cNvPr id="263"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609480" indent="-609480">
              <a:spcBef>
                <a:spcPts val="799"/>
              </a:spcBef>
              <a:buClr>
                <a:srgbClr val="ff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whether the disorder is dominant or recessiv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90720" indent="-53352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disorder is dominant, one of the parents must have the disorder.</a:t>
            </a:r>
            <a:endParaRPr b="0" lang="en-US" sz="3200" spc="-1" strike="noStrike">
              <a:solidFill>
                <a:srgbClr val="ffffff"/>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90720" indent="-53352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disorder is recessive, neither parent has to have the disorder because they can be heterozyg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ple of Pedigree Charts</a:t>
            </a:r>
            <a:endParaRPr b="0" lang="en-US" sz="4400" spc="-1" strike="noStrike">
              <a:solidFill>
                <a:srgbClr val="b7e7ff"/>
              </a:solidFill>
              <a:latin typeface="Arial"/>
            </a:endParaRPr>
          </a:p>
        </p:txBody>
      </p:sp>
      <p:sp>
        <p:nvSpPr>
          <p:cNvPr id="26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nant or Recess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66" name=""/>
          <p:cNvGrpSpPr/>
          <p:nvPr/>
        </p:nvGrpSpPr>
        <p:grpSpPr>
          <a:xfrm>
            <a:off x="2209680" y="2590920"/>
            <a:ext cx="4953240" cy="2743200"/>
            <a:chOff x="2209680" y="2590920"/>
            <a:chExt cx="4953240" cy="2743200"/>
          </a:xfrm>
        </p:grpSpPr>
        <p:grpSp>
          <p:nvGrpSpPr>
            <p:cNvPr id="267" name=""/>
            <p:cNvGrpSpPr/>
            <p:nvPr/>
          </p:nvGrpSpPr>
          <p:grpSpPr>
            <a:xfrm>
              <a:off x="2209680" y="2590920"/>
              <a:ext cx="4953240" cy="2743200"/>
              <a:chOff x="2209680" y="2590920"/>
              <a:chExt cx="4953240" cy="2743200"/>
            </a:xfrm>
          </p:grpSpPr>
          <p:grpSp>
            <p:nvGrpSpPr>
              <p:cNvPr id="268" name=""/>
              <p:cNvGrpSpPr/>
              <p:nvPr/>
            </p:nvGrpSpPr>
            <p:grpSpPr>
              <a:xfrm>
                <a:off x="2209680" y="2590920"/>
                <a:ext cx="4953240" cy="2743200"/>
                <a:chOff x="2209680" y="2590920"/>
                <a:chExt cx="4953240" cy="2743200"/>
              </a:xfrm>
            </p:grpSpPr>
            <p:sp>
              <p:nvSpPr>
                <p:cNvPr id="269" name=""/>
                <p:cNvSpPr/>
                <p:nvPr/>
              </p:nvSpPr>
              <p:spPr>
                <a:xfrm>
                  <a:off x="2514600" y="2590920"/>
                  <a:ext cx="4572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181480" y="2666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2" name=""/>
              <p:cNvGrpSpPr/>
              <p:nvPr/>
            </p:nvGrpSpPr>
            <p:grpSpPr>
              <a:xfrm>
                <a:off x="2438280" y="2895480"/>
                <a:ext cx="4496040" cy="1905120"/>
                <a:chOff x="2438280" y="2895480"/>
                <a:chExt cx="4496040" cy="1905120"/>
              </a:xfrm>
            </p:grpSpPr>
            <p:sp>
              <p:nvSpPr>
                <p:cNvPr id="283"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00"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nswer</a:t>
            </a:r>
            <a:endParaRPr b="0" lang="en-US" sz="4400" spc="-1" strike="noStrike">
              <a:solidFill>
                <a:srgbClr val="b7e7ff"/>
              </a:solidFill>
              <a:latin typeface="Arial"/>
            </a:endParaRPr>
          </a:p>
        </p:txBody>
      </p:sp>
      <p:sp>
        <p:nvSpPr>
          <p:cNvPr id="3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n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03" name=""/>
          <p:cNvGrpSpPr/>
          <p:nvPr/>
        </p:nvGrpSpPr>
        <p:grpSpPr>
          <a:xfrm>
            <a:off x="2209680" y="2590920"/>
            <a:ext cx="4953240" cy="2743200"/>
            <a:chOff x="2209680" y="2590920"/>
            <a:chExt cx="4953240" cy="2743200"/>
          </a:xfrm>
        </p:grpSpPr>
        <p:grpSp>
          <p:nvGrpSpPr>
            <p:cNvPr id="304" name=""/>
            <p:cNvGrpSpPr/>
            <p:nvPr/>
          </p:nvGrpSpPr>
          <p:grpSpPr>
            <a:xfrm>
              <a:off x="2209680" y="2590920"/>
              <a:ext cx="4953240" cy="2743200"/>
              <a:chOff x="2209680" y="2590920"/>
              <a:chExt cx="4953240" cy="2743200"/>
            </a:xfrm>
          </p:grpSpPr>
          <p:grpSp>
            <p:nvGrpSpPr>
              <p:cNvPr id="305" name=""/>
              <p:cNvGrpSpPr/>
              <p:nvPr/>
            </p:nvGrpSpPr>
            <p:grpSpPr>
              <a:xfrm>
                <a:off x="2209680" y="2590920"/>
                <a:ext cx="4953240" cy="2743200"/>
                <a:chOff x="2209680" y="2590920"/>
                <a:chExt cx="4953240" cy="2743200"/>
              </a:xfrm>
            </p:grpSpPr>
            <p:sp>
              <p:nvSpPr>
                <p:cNvPr id="306" name=""/>
                <p:cNvSpPr/>
                <p:nvPr/>
              </p:nvSpPr>
              <p:spPr>
                <a:xfrm>
                  <a:off x="2514600" y="2590920"/>
                  <a:ext cx="4572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181480" y="2666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2438280" y="2895480"/>
                <a:ext cx="4496040" cy="1905120"/>
                <a:chOff x="2438280" y="2895480"/>
                <a:chExt cx="4496040" cy="1905120"/>
              </a:xfrm>
            </p:grpSpPr>
            <p:sp>
              <p:nvSpPr>
                <p:cNvPr id="320"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7"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ple of Pedigree Charts</a:t>
            </a:r>
            <a:endParaRPr b="0" lang="en-US" sz="4400" spc="-1" strike="noStrike">
              <a:solidFill>
                <a:srgbClr val="b7e7ff"/>
              </a:solidFill>
              <a:latin typeface="Arial"/>
            </a:endParaRPr>
          </a:p>
        </p:txBody>
      </p:sp>
      <p:sp>
        <p:nvSpPr>
          <p:cNvPr id="33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inant or Recessive?</a:t>
            </a:r>
            <a:endParaRPr b="0" lang="en-US" sz="3200" spc="-1" strike="noStrike">
              <a:solidFill>
                <a:srgbClr val="ffffff"/>
              </a:solidFill>
              <a:latin typeface="Arial"/>
            </a:endParaRPr>
          </a:p>
        </p:txBody>
      </p:sp>
      <p:grpSp>
        <p:nvGrpSpPr>
          <p:cNvPr id="340" name=""/>
          <p:cNvGrpSpPr/>
          <p:nvPr/>
        </p:nvGrpSpPr>
        <p:grpSpPr>
          <a:xfrm>
            <a:off x="2209680" y="2590920"/>
            <a:ext cx="4953240" cy="2743200"/>
            <a:chOff x="2209680" y="2590920"/>
            <a:chExt cx="4953240" cy="2743200"/>
          </a:xfrm>
        </p:grpSpPr>
        <p:grpSp>
          <p:nvGrpSpPr>
            <p:cNvPr id="341" name=""/>
            <p:cNvGrpSpPr/>
            <p:nvPr/>
          </p:nvGrpSpPr>
          <p:grpSpPr>
            <a:xfrm>
              <a:off x="2209680" y="2590920"/>
              <a:ext cx="4953240" cy="2743200"/>
              <a:chOff x="2209680" y="2590920"/>
              <a:chExt cx="4953240" cy="2743200"/>
            </a:xfrm>
          </p:grpSpPr>
          <p:sp>
            <p:nvSpPr>
              <p:cNvPr id="342" name=""/>
              <p:cNvSpPr/>
              <p:nvPr/>
            </p:nvSpPr>
            <p:spPr>
              <a:xfrm>
                <a:off x="2514600" y="2590920"/>
                <a:ext cx="4572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5181480" y="2666880"/>
                <a:ext cx="53352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2438280" y="2895480"/>
              <a:ext cx="4496040" cy="1905120"/>
              <a:chOff x="2438280" y="2895480"/>
              <a:chExt cx="4496040" cy="1905120"/>
            </a:xfrm>
          </p:grpSpPr>
          <p:sp>
            <p:nvSpPr>
              <p:cNvPr id="356"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73" name=""/>
          <p:cNvSpPr/>
          <p:nvPr/>
        </p:nvSpPr>
        <p:spPr>
          <a:xfrm>
            <a:off x="2438280" y="3505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nswer</a:t>
            </a:r>
            <a:endParaRPr b="0" lang="en-US" sz="4400" spc="-1" strike="noStrike">
              <a:solidFill>
                <a:srgbClr val="b7e7ff"/>
              </a:solidFill>
              <a:latin typeface="Arial"/>
            </a:endParaRPr>
          </a:p>
        </p:txBody>
      </p:sp>
      <p:sp>
        <p:nvSpPr>
          <p:cNvPr id="37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ssive</a:t>
            </a:r>
            <a:endParaRPr b="0" lang="en-US" sz="3200" spc="-1" strike="noStrike">
              <a:solidFill>
                <a:srgbClr val="ffffff"/>
              </a:solidFill>
              <a:latin typeface="Arial"/>
            </a:endParaRPr>
          </a:p>
        </p:txBody>
      </p:sp>
      <p:grpSp>
        <p:nvGrpSpPr>
          <p:cNvPr id="376" name=""/>
          <p:cNvGrpSpPr/>
          <p:nvPr/>
        </p:nvGrpSpPr>
        <p:grpSpPr>
          <a:xfrm>
            <a:off x="2209680" y="2590920"/>
            <a:ext cx="4953240" cy="2743200"/>
            <a:chOff x="2209680" y="2590920"/>
            <a:chExt cx="4953240" cy="2743200"/>
          </a:xfrm>
        </p:grpSpPr>
        <p:grpSp>
          <p:nvGrpSpPr>
            <p:cNvPr id="377" name=""/>
            <p:cNvGrpSpPr/>
            <p:nvPr/>
          </p:nvGrpSpPr>
          <p:grpSpPr>
            <a:xfrm>
              <a:off x="2209680" y="2590920"/>
              <a:ext cx="4953240" cy="2743200"/>
              <a:chOff x="2209680" y="2590920"/>
              <a:chExt cx="4953240" cy="2743200"/>
            </a:xfrm>
          </p:grpSpPr>
          <p:sp>
            <p:nvSpPr>
              <p:cNvPr id="378" name=""/>
              <p:cNvSpPr/>
              <p:nvPr/>
            </p:nvSpPr>
            <p:spPr>
              <a:xfrm>
                <a:off x="2514600" y="2590920"/>
                <a:ext cx="4572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553080" y="2666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220968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705720" y="38098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4343400" y="48006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3581280" y="4800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952880" y="3886200"/>
                <a:ext cx="457200" cy="533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505320" y="2590920"/>
                <a:ext cx="53316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733920" y="3809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5181480" y="2666880"/>
                <a:ext cx="53352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105520" y="480060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86728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2971800" y="3809880"/>
                <a:ext cx="533520" cy="533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1" name=""/>
            <p:cNvGrpSpPr/>
            <p:nvPr/>
          </p:nvGrpSpPr>
          <p:grpSpPr>
            <a:xfrm>
              <a:off x="2438280" y="2895480"/>
              <a:ext cx="4496040" cy="1905120"/>
              <a:chOff x="2438280" y="2895480"/>
              <a:chExt cx="4496040" cy="1905120"/>
            </a:xfrm>
          </p:grpSpPr>
          <p:sp>
            <p:nvSpPr>
              <p:cNvPr id="392" name=""/>
              <p:cNvSpPr/>
              <p:nvPr/>
            </p:nvSpPr>
            <p:spPr>
              <a:xfrm>
                <a:off x="2971800" y="28954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3200400" y="2895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2438280" y="3505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69343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9625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20040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2670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57200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380988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4100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457200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3809880" y="44956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0958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5181480" y="3581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5181480" y="3505320"/>
                <a:ext cx="175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095880" y="2971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5715000" y="2895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9" name=""/>
          <p:cNvSpPr/>
          <p:nvPr/>
        </p:nvSpPr>
        <p:spPr>
          <a:xfrm>
            <a:off x="243828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ummary</a:t>
            </a:r>
            <a:endParaRPr b="0" lang="en-US" sz="4400" spc="-1" strike="noStrike">
              <a:solidFill>
                <a:srgbClr val="b7e7ff"/>
              </a:solidFill>
              <a:latin typeface="Arial"/>
            </a:endParaRPr>
          </a:p>
        </p:txBody>
      </p:sp>
      <p:sp>
        <p:nvSpPr>
          <p:cNvPr id="4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grees are family trees that explain your genetic hi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grees are used to find out the probability of a child having a disorder in a particular famil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gin to interpret a pedigree, determine if the disease or condition is autosomal or X-linked and dominant or recess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verview</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 pedigree? </a:t>
            </a:r>
            <a:endParaRPr b="0" lang="en-US" sz="3200" spc="-1" strike="noStrike">
              <a:solidFill>
                <a:srgbClr val="ffffff"/>
              </a:solidFill>
              <a:latin typeface="Arial"/>
            </a:endParaRPr>
          </a:p>
          <a:p>
            <a:pPr lvl="1" marL="1168560" indent="-71136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finition</a:t>
            </a:r>
            <a:endParaRPr b="0" lang="en-US" sz="2800" spc="-1" strike="noStrike">
              <a:solidFill>
                <a:srgbClr val="ffffff"/>
              </a:solidFill>
              <a:latin typeface="Arial"/>
            </a:endParaRPr>
          </a:p>
          <a:p>
            <a:pPr lvl="1" marL="1168560" indent="-71136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Uses</a:t>
            </a:r>
            <a:endParaRPr b="0" lang="en-US" sz="28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onstructing a pedigree </a:t>
            </a:r>
            <a:endParaRPr b="0" lang="en-US" sz="3200" spc="-1" strike="noStrike">
              <a:solidFill>
                <a:srgbClr val="ffffff"/>
              </a:solidFill>
              <a:latin typeface="Arial"/>
            </a:endParaRPr>
          </a:p>
          <a:p>
            <a:pPr lvl="1" marL="1168560" indent="-71136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ymbols</a:t>
            </a:r>
            <a:endParaRPr b="0" lang="en-US" sz="2800" spc="-1" strike="noStrike">
              <a:solidFill>
                <a:srgbClr val="ffffff"/>
              </a:solidFill>
              <a:latin typeface="Arial"/>
            </a:endParaRPr>
          </a:p>
          <a:p>
            <a:pPr lvl="1" marL="1168560" indent="-71136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necting the symbols</a:t>
            </a:r>
            <a:endParaRPr b="0" lang="en-US" sz="28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terpreting a pedigree </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a Pedigree?</a:t>
            </a:r>
            <a:endParaRPr b="0" lang="en-US" sz="4400" spc="-1" strike="noStrike">
              <a:solidFill>
                <a:srgbClr val="b7e7ff"/>
              </a:solidFill>
              <a:latin typeface="Arial"/>
            </a:endParaRPr>
          </a:p>
        </p:txBody>
      </p:sp>
      <p:sp>
        <p:nvSpPr>
          <p:cNvPr id="94" name="PlaceHolder 2"/>
          <p:cNvSpPr>
            <a:spLocks noGrp="1"/>
          </p:cNvSpPr>
          <p:nvPr>
            <p:ph/>
          </p:nvPr>
        </p:nvSpPr>
        <p:spPr>
          <a:xfrm>
            <a:off x="603360" y="2286000"/>
            <a:ext cx="854064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digree is a chart of the genetic history of family over several generatio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or a genetic counselor would find out about your family history and make this chart to analyz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Constructing a Pedigree</a:t>
            </a:r>
            <a:br>
              <a:rPr sz="4000"/>
            </a:br>
            <a:endParaRPr b="0" lang="en-US" sz="4000" spc="-1" strike="noStrike">
              <a:solidFill>
                <a:srgbClr val="b7e7ff"/>
              </a:solidFill>
              <a:latin typeface="Arial"/>
            </a:endParaRPr>
          </a:p>
        </p:txBody>
      </p:sp>
      <p:sp>
        <p:nvSpPr>
          <p:cNvPr id="96" name="PlaceHolder 2"/>
          <p:cNvSpPr>
            <a:spLocks noGrp="1"/>
          </p:cNvSpPr>
          <p:nvPr>
            <p:ph/>
          </p:nvPr>
        </p:nvSpPr>
        <p:spPr>
          <a:xfrm>
            <a:off x="2819520" y="4114440"/>
            <a:ext cx="1752480" cy="685800"/>
          </a:xfrm>
          <a:prstGeom prst="rect">
            <a:avLst/>
          </a:prstGeom>
          <a:noFill/>
          <a:ln w="0">
            <a:noFill/>
          </a:ln>
        </p:spPr>
        <p:txBody>
          <a:bodyPr lIns="90000" rIns="90000" tIns="46800" bIns="46800"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le</a:t>
            </a:r>
            <a:endParaRPr b="0" lang="en-US" sz="3600" spc="-1" strike="noStrike">
              <a:solidFill>
                <a:srgbClr val="ffffff"/>
              </a:solidFill>
              <a:latin typeface="Arial"/>
            </a:endParaRPr>
          </a:p>
        </p:txBody>
      </p:sp>
      <p:sp>
        <p:nvSpPr>
          <p:cNvPr id="97" name="PlaceHolder 3"/>
          <p:cNvSpPr>
            <a:spLocks noGrp="1"/>
          </p:cNvSpPr>
          <p:nvPr>
            <p:ph/>
          </p:nvPr>
        </p:nvSpPr>
        <p:spPr>
          <a:xfrm>
            <a:off x="2819520" y="2285640"/>
            <a:ext cx="2286000" cy="685800"/>
          </a:xfrm>
          <a:prstGeom prst="rect">
            <a:avLst/>
          </a:prstGeom>
          <a:noFill/>
          <a:ln w="0">
            <a:noFill/>
          </a:ln>
        </p:spPr>
        <p:txBody>
          <a:bodyPr lIns="90000" rIns="90000" tIns="46800" bIns="46800"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emale</a:t>
            </a:r>
            <a:endParaRPr b="0" lang="en-US" sz="3600" spc="-1" strike="noStrike">
              <a:solidFill>
                <a:srgbClr val="ffffff"/>
              </a:solidFill>
              <a:latin typeface="Arial"/>
            </a:endParaRPr>
          </a:p>
        </p:txBody>
      </p:sp>
      <p:sp>
        <p:nvSpPr>
          <p:cNvPr id="98" name=""/>
          <p:cNvSpPr/>
          <p:nvPr/>
        </p:nvSpPr>
        <p:spPr>
          <a:xfrm>
            <a:off x="5257800" y="2362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5257800" y="41911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necting Pedigree Symbols</a:t>
            </a:r>
            <a:endParaRPr b="0" lang="en-US" sz="4400" spc="-1" strike="noStrike">
              <a:solidFill>
                <a:srgbClr val="b7e7ff"/>
              </a:solidFill>
              <a:latin typeface="Arial"/>
            </a:endParaRPr>
          </a:p>
        </p:txBody>
      </p:sp>
      <p:sp>
        <p:nvSpPr>
          <p:cNvPr id="101" name="PlaceHolder 2"/>
          <p:cNvSpPr>
            <a:spLocks noGrp="1"/>
          </p:cNvSpPr>
          <p:nvPr>
            <p:ph/>
          </p:nvPr>
        </p:nvSpPr>
        <p:spPr>
          <a:xfrm>
            <a:off x="533520" y="2590560"/>
            <a:ext cx="4270320" cy="1066680"/>
          </a:xfrm>
          <a:prstGeom prst="rect">
            <a:avLst/>
          </a:prstGeom>
          <a:noFill/>
          <a:ln w="0">
            <a:noFill/>
          </a:ln>
        </p:spPr>
        <p:txBody>
          <a:bodyPr lIns="90000" rIns="90000" tIns="46800" bIns="46800" anchor="t">
            <a:normAutofit fontScale="41000"/>
          </a:bodyPr>
          <a:p>
            <a:pPr marL="140400" indent="-140400">
              <a:lnSpc>
                <a:spcPct val="8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raternal twins</a:t>
            </a:r>
            <a:endParaRPr b="0" lang="en-US" sz="4000" spc="-1" strike="noStrike">
              <a:solidFill>
                <a:srgbClr val="ffffff"/>
              </a:solidFill>
              <a:latin typeface="Arial"/>
            </a:endParaRPr>
          </a:p>
          <a:p>
            <a:pPr marL="140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404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40400" indent="-140400">
              <a:lnSpc>
                <a:spcPct val="8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dentical twins</a:t>
            </a:r>
            <a:endParaRPr b="0" lang="en-US" sz="4000" spc="-1" strike="noStrike">
              <a:solidFill>
                <a:srgbClr val="ffffff"/>
              </a:solidFill>
              <a:latin typeface="Arial"/>
            </a:endParaRPr>
          </a:p>
          <a:p>
            <a:pPr marL="1404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
          <p:cNvSpPr/>
          <p:nvPr/>
        </p:nvSpPr>
        <p:spPr>
          <a:xfrm>
            <a:off x="780840" y="1600200"/>
            <a:ext cx="686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of connected symbols:</a:t>
            </a:r>
            <a:endParaRPr b="0" lang="en-US" sz="3600" spc="-1" strike="noStrike">
              <a:solidFill>
                <a:srgbClr val="ffffff"/>
              </a:solidFill>
              <a:latin typeface="Arial"/>
            </a:endParaRPr>
          </a:p>
        </p:txBody>
      </p:sp>
      <p:grpSp>
        <p:nvGrpSpPr>
          <p:cNvPr id="103" name=""/>
          <p:cNvGrpSpPr/>
          <p:nvPr/>
        </p:nvGrpSpPr>
        <p:grpSpPr>
          <a:xfrm>
            <a:off x="5334120" y="4343400"/>
            <a:ext cx="2438280" cy="1371600"/>
            <a:chOff x="5334120" y="4343400"/>
            <a:chExt cx="2438280" cy="1371600"/>
          </a:xfrm>
        </p:grpSpPr>
        <p:sp>
          <p:nvSpPr>
            <p:cNvPr id="104" name=""/>
            <p:cNvSpPr/>
            <p:nvPr/>
          </p:nvSpPr>
          <p:spPr>
            <a:xfrm>
              <a:off x="6172200" y="5562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5" name=""/>
            <p:cNvGrpSpPr/>
            <p:nvPr/>
          </p:nvGrpSpPr>
          <p:grpSpPr>
            <a:xfrm>
              <a:off x="5334120" y="4343400"/>
              <a:ext cx="2438280" cy="1371600"/>
              <a:chOff x="5334120" y="4343400"/>
              <a:chExt cx="2438280" cy="1371600"/>
            </a:xfrm>
          </p:grpSpPr>
          <p:sp>
            <p:nvSpPr>
              <p:cNvPr id="106" name=""/>
              <p:cNvSpPr/>
              <p:nvPr/>
            </p:nvSpPr>
            <p:spPr>
              <a:xfrm>
                <a:off x="685800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V="1">
                <a:off x="5943600" y="457164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553080" y="457200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15200" y="4343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33412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791320" y="4572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71500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3" name=""/>
          <p:cNvSpPr/>
          <p:nvPr/>
        </p:nvSpPr>
        <p:spPr>
          <a:xfrm>
            <a:off x="693432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019920" y="2666520"/>
            <a:ext cx="5331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629400" y="266688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391520" y="243828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410080" y="24382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867280" y="266688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791320" y="335268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necting Pedigree Symbols</a:t>
            </a:r>
            <a:endParaRPr b="0" lang="en-US" sz="4400" spc="-1" strike="noStrike">
              <a:solidFill>
                <a:srgbClr val="b7e7ff"/>
              </a:solidFill>
              <a:latin typeface="Arial"/>
            </a:endParaRPr>
          </a:p>
        </p:txBody>
      </p:sp>
      <p:sp>
        <p:nvSpPr>
          <p:cNvPr id="121" name="PlaceHolder 2"/>
          <p:cNvSpPr>
            <a:spLocks noGrp="1"/>
          </p:cNvSpPr>
          <p:nvPr>
            <p:ph/>
          </p:nvPr>
        </p:nvSpPr>
        <p:spPr>
          <a:xfrm>
            <a:off x="533520" y="2590560"/>
            <a:ext cx="4270320" cy="2057400"/>
          </a:xfrm>
          <a:prstGeom prst="rect">
            <a:avLst/>
          </a:prstGeom>
          <a:noFill/>
          <a:ln w="0">
            <a:noFill/>
          </a:ln>
        </p:spPr>
        <p:txBody>
          <a:bodyPr lIns="90000" rIns="90000" tIns="46800" bIns="46800" anchor="t">
            <a:normAutofit/>
          </a:bodyPr>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rried Couple</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blings</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nvGrpSpPr>
          <p:cNvPr id="122" name=""/>
          <p:cNvGrpSpPr/>
          <p:nvPr/>
        </p:nvGrpSpPr>
        <p:grpSpPr>
          <a:xfrm>
            <a:off x="5029200" y="2743200"/>
            <a:ext cx="1752480" cy="457200"/>
            <a:chOff x="5029200" y="2743200"/>
            <a:chExt cx="1752480" cy="457200"/>
          </a:xfrm>
        </p:grpSpPr>
        <p:sp>
          <p:nvSpPr>
            <p:cNvPr id="123" name=""/>
            <p:cNvSpPr/>
            <p:nvPr/>
          </p:nvSpPr>
          <p:spPr>
            <a:xfrm>
              <a:off x="6324480" y="27432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029200" y="2743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48640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 name=""/>
          <p:cNvSpPr/>
          <p:nvPr/>
        </p:nvSpPr>
        <p:spPr>
          <a:xfrm>
            <a:off x="780840" y="1600200"/>
            <a:ext cx="686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of connected symbols:</a:t>
            </a:r>
            <a:endParaRPr b="0" lang="en-US" sz="3600" spc="-1" strike="noStrike">
              <a:solidFill>
                <a:srgbClr val="ffffff"/>
              </a:solidFill>
              <a:latin typeface="Arial"/>
            </a:endParaRPr>
          </a:p>
        </p:txBody>
      </p:sp>
      <p:grpSp>
        <p:nvGrpSpPr>
          <p:cNvPr id="127" name=""/>
          <p:cNvGrpSpPr/>
          <p:nvPr/>
        </p:nvGrpSpPr>
        <p:grpSpPr>
          <a:xfrm>
            <a:off x="4343400" y="4038480"/>
            <a:ext cx="2590920" cy="2057400"/>
            <a:chOff x="4343400" y="4038480"/>
            <a:chExt cx="2590920" cy="2057400"/>
          </a:xfrm>
        </p:grpSpPr>
        <p:sp>
          <p:nvSpPr>
            <p:cNvPr id="128" name=""/>
            <p:cNvSpPr/>
            <p:nvPr/>
          </p:nvSpPr>
          <p:spPr>
            <a:xfrm>
              <a:off x="5257800" y="563868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6324480" y="403848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0292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486400" y="4267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6477120" y="5638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flipV="1">
              <a:off x="5943600" y="426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572000" y="48765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343400" y="5638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572000" y="487656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486400" y="48765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781680" y="48765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p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a pedigree chart look like?</a:t>
            </a:r>
            <a:endParaRPr b="0" lang="en-US" sz="3200" spc="-1" strike="noStrike">
              <a:solidFill>
                <a:srgbClr val="ffffff"/>
              </a:solidFill>
              <a:latin typeface="Arial"/>
            </a:endParaRPr>
          </a:p>
        </p:txBody>
      </p:sp>
      <p:sp>
        <p:nvSpPr>
          <p:cNvPr id="141" name=""/>
          <p:cNvSpPr/>
          <p:nvPr/>
        </p:nvSpPr>
        <p:spPr>
          <a:xfrm>
            <a:off x="1447920" y="3886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895480" y="42670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1143000" y="2743200"/>
            <a:ext cx="5866560" cy="3351960"/>
            <a:chOff x="1143000" y="2743200"/>
            <a:chExt cx="5866560" cy="3351960"/>
          </a:xfrm>
        </p:grpSpPr>
        <p:grpSp>
          <p:nvGrpSpPr>
            <p:cNvPr id="144" name=""/>
            <p:cNvGrpSpPr/>
            <p:nvPr/>
          </p:nvGrpSpPr>
          <p:grpSpPr>
            <a:xfrm>
              <a:off x="1143000" y="2743200"/>
              <a:ext cx="5866560" cy="3351960"/>
              <a:chOff x="1143000" y="2743200"/>
              <a:chExt cx="5866560" cy="3351960"/>
            </a:xfrm>
          </p:grpSpPr>
          <p:sp>
            <p:nvSpPr>
              <p:cNvPr id="145" name=""/>
              <p:cNvSpPr/>
              <p:nvPr/>
            </p:nvSpPr>
            <p:spPr>
              <a:xfrm>
                <a:off x="1504080" y="2743200"/>
                <a:ext cx="541440" cy="65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287400" y="283572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1143000" y="423252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468120" y="423252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670200" y="544320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767320" y="544320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392000" y="4325760"/>
                <a:ext cx="541440" cy="65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2677320" y="2743200"/>
                <a:ext cx="631440" cy="651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2948040" y="4232520"/>
                <a:ext cx="63144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4662720" y="2835720"/>
                <a:ext cx="63180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572720" y="5443200"/>
                <a:ext cx="63144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474880" y="4232520"/>
                <a:ext cx="63180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2045520" y="4232520"/>
                <a:ext cx="631800" cy="651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8" name=""/>
            <p:cNvGrpSpPr/>
            <p:nvPr/>
          </p:nvGrpSpPr>
          <p:grpSpPr>
            <a:xfrm>
              <a:off x="1413720" y="3115080"/>
              <a:ext cx="5325120" cy="2327760"/>
              <a:chOff x="1413720" y="3115080"/>
              <a:chExt cx="5325120" cy="2327760"/>
            </a:xfrm>
          </p:grpSpPr>
          <p:sp>
            <p:nvSpPr>
              <p:cNvPr id="159" name=""/>
              <p:cNvSpPr/>
              <p:nvPr/>
            </p:nvSpPr>
            <p:spPr>
              <a:xfrm>
                <a:off x="2045520" y="3115080"/>
                <a:ext cx="63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316240" y="3115080"/>
                <a:ext cx="0" cy="65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413720" y="3860280"/>
                <a:ext cx="180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738840" y="3860280"/>
                <a:ext cx="0" cy="37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219120" y="3860280"/>
                <a:ext cx="0" cy="37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316240" y="3860280"/>
                <a:ext cx="0" cy="37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579840" y="4604760"/>
                <a:ext cx="81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0920" y="460476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038040" y="5070240"/>
                <a:ext cx="189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933440" y="5070240"/>
                <a:ext cx="0" cy="37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940920" y="5070240"/>
                <a:ext cx="0" cy="37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38040" y="5070240"/>
                <a:ext cx="0" cy="37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745960" y="3860280"/>
                <a:ext cx="0" cy="37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662720" y="3952800"/>
                <a:ext cx="0" cy="37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662720" y="3860280"/>
                <a:ext cx="2076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45960" y="3208320"/>
                <a:ext cx="0" cy="65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294880" y="3115080"/>
                <a:ext cx="90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5257800" y="48006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Symbols in a Pedigree Chart</a:t>
            </a:r>
            <a:br>
              <a:rPr sz="4000"/>
            </a:br>
            <a:endParaRPr b="0" lang="en-US" sz="4000" spc="-1" strike="noStrike">
              <a:solidFill>
                <a:srgbClr val="b7e7ff"/>
              </a:solidFill>
              <a:latin typeface="Arial"/>
            </a:endParaRPr>
          </a:p>
        </p:txBody>
      </p:sp>
      <p:sp>
        <p:nvSpPr>
          <p:cNvPr id="178" name="PlaceHolder 2"/>
          <p:cNvSpPr>
            <a:spLocks noGrp="1"/>
          </p:cNvSpPr>
          <p:nvPr>
            <p:ph/>
          </p:nvPr>
        </p:nvSpPr>
        <p:spPr>
          <a:xfrm>
            <a:off x="603360" y="1904760"/>
            <a:ext cx="8540640" cy="609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3"/>
          <p:cNvSpPr>
            <a:spLocks noGrp="1"/>
          </p:cNvSpPr>
          <p:nvPr>
            <p:ph/>
          </p:nvPr>
        </p:nvSpPr>
        <p:spPr>
          <a:xfrm>
            <a:off x="380520" y="1980720"/>
            <a:ext cx="43434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ffected </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X-linked</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utosomal carrier</a:t>
            </a:r>
            <a:endParaRPr b="0" lang="en-US" sz="3600" spc="-1" strike="noStrike">
              <a:solidFill>
                <a:srgbClr val="ffffff"/>
              </a:solidFill>
              <a:latin typeface="Arial"/>
            </a:endParaRPr>
          </a:p>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eased</a:t>
            </a:r>
            <a:endParaRPr b="0" lang="en-US" sz="36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
          <p:cNvSpPr/>
          <p:nvPr/>
        </p:nvSpPr>
        <p:spPr>
          <a:xfrm>
            <a:off x="5257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257800" y="4114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5780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410080" y="3733920"/>
            <a:ext cx="7632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84" name=""/>
          <p:cNvSpPr/>
          <p:nvPr/>
        </p:nvSpPr>
        <p:spPr>
          <a:xfrm>
            <a:off x="5257800" y="48006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4864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erpreting a Pedigree Chart</a:t>
            </a:r>
            <a:endParaRPr b="0" lang="en-US" sz="4400" spc="-1" strike="noStrike">
              <a:solidFill>
                <a:srgbClr val="b7e7ff"/>
              </a:solidFill>
              <a:latin typeface="Arial"/>
            </a:endParaRPr>
          </a:p>
        </p:txBody>
      </p:sp>
      <p:sp>
        <p:nvSpPr>
          <p:cNvPr id="187" name="PlaceHolder 2"/>
          <p:cNvSpPr>
            <a:spLocks noGrp="1"/>
          </p:cNvSpPr>
          <p:nvPr>
            <p:ph/>
          </p:nvPr>
        </p:nvSpPr>
        <p:spPr>
          <a:xfrm>
            <a:off x="0" y="1905120"/>
            <a:ext cx="8540640" cy="4495680"/>
          </a:xfrm>
          <a:prstGeom prst="rect">
            <a:avLst/>
          </a:prstGeom>
          <a:noFill/>
          <a:ln w="0">
            <a:noFill/>
          </a:ln>
        </p:spPr>
        <p:txBody>
          <a:bodyPr lIns="90000" rIns="90000" tIns="46800" bIns="46800" anchor="t">
            <a:normAutofit/>
          </a:bodyPr>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if the pedigree chart shows an autosomal or X-linked diseas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90720" indent="-53352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most of the males in the pedigree are affected the disorder is X-linked </a:t>
            </a:r>
            <a:endParaRPr b="0" lang="en-US" sz="3200" spc="-1" strike="noStrike">
              <a:solidFill>
                <a:srgbClr val="ffffff"/>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90720" indent="-53352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a 50/50 ratio between men and women the disorder is autosom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7:41:26Z</dcterms:created>
  <dc:creator>science</dc:creator>
  <dc:description/>
  <dc:language>en-US</dc:language>
  <cp:lastModifiedBy>agr</cp:lastModifiedBy>
  <dcterms:modified xsi:type="dcterms:W3CDTF">2008-08-26T00:24:25Z</dcterms:modified>
  <cp:revision>45</cp:revision>
  <dc:subject/>
  <dc:title>Pedigrees</dc:title>
</cp:coreProperties>
</file>